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6079-9026-478D-976B-5A17CC168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A9CB-8268-47A2-BDE6-57FD644F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95A8-1E45-4078-BF1A-27A58FF9B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A6C7-D9DB-4243-8CE3-4D6079C48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2906-2858-494F-A044-24F07432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954F-BC23-42C4-818F-FB618614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ABB4-2CA7-44C6-B398-1FCB72BF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A2E9-2122-4CBF-AB81-2045F0C6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6146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8435-AFB7-48F8-B452-43F97E78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1B5A-BC1C-4997-8862-8989A349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7E9D-950A-482C-873A-A1FC78FD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DB04-D37E-47BE-A913-195DBF47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7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401F-A2FB-4E53-8E01-1B888B9FDD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Structure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Structures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476280"/>
            <a:ext cx="172728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59600" spc="-1" strike="noStrike">
                <a:solidFill>
                  <a:srgbClr val="000000"/>
                </a:solidFill>
                <a:latin typeface="Verdana"/>
              </a:rPr>
              <a:t>Transformation</a:t>
            </a:r>
            <a:endParaRPr b="0" lang="en-US" sz="355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XML et X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8000" y="1197000"/>
            <a:ext cx="5040360" cy="29196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&lt;?xml version="1.0" en_oding="ISO-8859-1" ?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700280"/>
            <a:ext cx="4321080" cy="281016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bib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 nom="Guerre et paix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auteur="Léon Tolstoï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genre="roman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 nom="Fondation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auteur="Isaac Asimov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genre="science-fiction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 nom="La nuit du renard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auteur="Mary Higgins Clark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genre="policier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bibl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1700280"/>
            <a:ext cx="4321080" cy="433944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bibl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nom&gt;Guerre et paix&lt;/nom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auteur&gt;Léon Tolstoï&lt;/auteu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genre&gt;roman&lt;/genre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nom&gt;Fondation&lt;/nom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auteur&gt;Isaac Asimov&lt;/auteu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genre&gt;science-fiction&lt;/gen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nom&gt;La nuit du renard&lt;/nom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auteur&gt;Mary Higgins Clark&lt;/auteu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genre&gt;policier&lt;/gen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bibl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X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