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706100" cy="75422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0F85-55E3-4461-8CE2-0C335E564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D170-7C9A-419A-9690-47F63F97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5914-5F5F-4E51-AAAA-69CD8D414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01B8-482A-4F76-AD16-43A0FB9F4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0054-BB59-4157-A3C3-82370DB3B7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9253-6F6A-4374-96B9-E7E11673C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44462-ECD8-4645-A32D-F8D8BDB4F7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221DB-BD9F-416A-87CE-7E079A049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20786-1C9C-48E2-A819-7B27F21207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387F-9DBD-40BA-B2EB-E4FE0FDFEA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39280-18FE-45CB-A8EE-F673E6F27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C359-D938-48D7-8291-9722EE2ED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5E83-7570-43CB-8F12-F8A12042D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6A12-8DFC-4B7A-8A67-9D7940A45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9745A-D85A-431B-B19F-3FE67DD641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390F8-305C-47F1-8259-3746480217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E22EB-5ABF-4700-A287-18F0A2205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4E4F-FB19-48D8-B8A6-3FCCC2DD1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3ED0-BAC7-4B5C-A871-2BA7BDFD9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A813-07C8-4781-A541-4E5AFFA5B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C849-D089-4377-B9D5-B06F6C7DB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8A6A-8336-4F6E-8F64-C63EF3AB4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6146-7676-4A38-BA53-9C0069E2E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F442-6697-44F5-92DD-4544BE4C5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82680" indent="-3812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6240" indent="-3920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90512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66400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19000" y="6889680"/>
            <a:ext cx="3376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9000" y="7044840"/>
            <a:ext cx="3376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B6AA049D-2441-4F0A-B709-E856EA195A87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6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 flipH="1">
            <a:off x="819000" y="6296040"/>
            <a:ext cx="9048960" cy="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578640" y="6867360"/>
            <a:ext cx="324000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9000" y="863640"/>
            <a:ext cx="90489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821880" y="6889680"/>
            <a:ext cx="3351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21880" y="7044840"/>
            <a:ext cx="33512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C80FD344-FE60-4047-B095-781F7DFB674B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1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52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78640" y="6870600"/>
            <a:ext cx="3240000" cy="500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535320" y="1764720"/>
            <a:ext cx="9635400" cy="43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440" indent="0" algn="ctr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92240" indent="56196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379440" indent="114624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574560" indent="171000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5920"/>
            <a:ext cx="3298680" cy="69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44840" y="4211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Rating-Kenn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der 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3280" y="25002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WORKSHOP 2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oderne Finanz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und Rating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stimmen das Rating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9000" y="1753920"/>
            <a:ext cx="90489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32640" indent="-33156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"harten" Faktoren, also die zahlenmäßige Darstellung des Unternehmens in Bilanz und GuV, bestimmen zum überwiegenden Teil das Ergebnis im Rating.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7560" y="470700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Je nach Branchenmodell und Umsatzgröße werden beim Mittelstandsrating zwischen 5 und 7 Kennzahlen verwendet um die verschiedenen Analysebereiche zu betracht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283536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444600" indent="1260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Gewichtung beim typischen Ratingverfahren der HypoVereinsbank für ein mittelständisches Unternehmen (Mittelstandsrating) beträgt 70 % Hard-facts zu 30% Soft-fac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leuchten Analysebereiche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8640" y="1834920"/>
            <a:ext cx="8999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Beispiel: Analysebereich Verschuldung / Vermögen</a:t>
            </a:r>
            <a:br>
              <a:rPr sz="1900"/>
            </a:b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               Produktionsunternehmen mit einem Umsatz &gt; € 10 Mio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2844720"/>
            <a:ext cx="9048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Finanzaufwands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560" y="4718160"/>
            <a:ext cx="9048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 Eigenkapital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2720" y="3348000"/>
            <a:ext cx="646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Zinsaufwand für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durchschnittliches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14560" y="5138640"/>
            <a:ext cx="6889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           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s Eigen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bereinigte Bilanzsumme – Grundstücke/Gebäu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sind nicht gleich gewichtet 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85880" y="395748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43040" y="1611360"/>
            <a:ext cx="4178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as Unternehmen wird gegen den Median der jeweiligen Kennzahl in seiner Branchengruppe gespiegelt.  Der farbige Balken zeigt an, welchen Einfluß die Abweichung vom Median auf die Bilanzbonitä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Prozentzahl sagt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 aus, wie stark das betrachtete Unternehmen vom Branchendurchschnitt bei der Kennzahl abweich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00840" y="5375160"/>
            <a:ext cx="396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Alle Prozentbeträge der Balken summieren sich betragsmäßig au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640" y="5100480"/>
            <a:ext cx="511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Richtung bzw. die Farbe des Balkens geben  an, ob es sich um eine negative (nach links / rot) oder positive (nach rechts / grün) Beeinflussung der Bilanzbonität h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24480" y="1549440"/>
            <a:ext cx="4394160" cy="34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" y="3122640"/>
            <a:ext cx="7351920" cy="316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appungsgrenzen verhindern Ausreiße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65400" y="1467000"/>
            <a:ext cx="6321600" cy="173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97560" y="3483000"/>
            <a:ext cx="792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45200" y="261936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2619360"/>
            <a:ext cx="22334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1200" y="1827360"/>
            <a:ext cx="3371760" cy="718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1200" y="2736720"/>
            <a:ext cx="3371760" cy="385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0640" y="5499000"/>
            <a:ext cx="115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Frutiger 55 Roman"/>
              </a:rPr>
              <a:t>** Maja 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Maschinell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Jahresabschlus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4600" y="14209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utiger 75 Black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6480" y="1038240"/>
            <a:ext cx="9015480" cy="504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680" y="417240"/>
            <a:ext cx="863424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Szenariorechnungen machen Chancen sichtba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77280" y="4352760"/>
            <a:ext cx="1128600" cy="18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819000"/>
            <a:ext cx="2783160" cy="662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82520" y="1527120"/>
            <a:ext cx="4738680" cy="337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3560" y="1146240"/>
            <a:ext cx="1439640" cy="536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49520" y="1322280"/>
            <a:ext cx="2695680" cy="1154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44600" y="1187280"/>
            <a:ext cx="837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Frutiger 75 Black"/>
              </a:rPr>
              <a:t>Vielen Dank für Ihre Aufmerksamkeit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41280" y="2936880"/>
            <a:ext cx="8202600" cy="12654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45200" y="89064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75 Black"/>
              </a:rPr>
              <a:t>Joachim Scho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0280" y="1900080"/>
            <a:ext cx="4673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HypoVereins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Zentralbere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Firmen-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Kommerzielle Immobilien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Am Tucherpar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80538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on +49 (0)89/378-243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ax +49 (0)89/378-33-24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joachim.scholz@hvb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8:49:04Z</dcterms:created>
  <dc:creator/>
  <dc:description/>
  <dc:language>en-US</dc:language>
  <cp:lastModifiedBy> </cp:lastModifiedBy>
  <dcterms:modified xsi:type="dcterms:W3CDTF">2007-09-11T10:32:44Z</dcterms:modified>
  <cp:revision>1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3038333</vt:r8>
  </property>
</Properties>
</file>