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2B58-5C24-4486-BE2A-B889FC1BB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660E-E905-4157-A134-AD6F0A54A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2041-5D1D-464C-9B2C-338614424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141E-1677-4827-AE01-9BDC4A93E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88A7-0F33-4282-91B4-52EB540E1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9B80-9EC0-4403-B537-23877BAF9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B77C-6544-4703-8008-F6A26A5E3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4435-D70E-40A2-A4E0-02172D742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6146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F78B-3035-4120-B011-F2929CA38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C84C-BD64-4F55-AF2A-D51C9BC64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3240-CF0F-42F8-9632-8F2DE9611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9C0E-38EB-4197-BB56-4F640716B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279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A2699-228B-4555-BD3B-B610725E67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25236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Verdana"/>
              </a:rPr>
              <a:t>Structure 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5520" y="800280"/>
            <a:ext cx="33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Verdana"/>
              </a:rPr>
              <a:t>Structures 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40000" y="476280"/>
            <a:ext cx="1727280" cy="360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59600" spc="-1" strike="noStrike">
                <a:solidFill>
                  <a:srgbClr val="000000"/>
                </a:solidFill>
                <a:latin typeface="Verdana"/>
              </a:rPr>
              <a:t>Transformation</a:t>
            </a:r>
            <a:endParaRPr b="0" lang="en-US" sz="355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15920"/>
            <a:ext cx="67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ffffff"/>
                </a:solidFill>
                <a:latin typeface="Verdana"/>
              </a:rPr>
              <a:t>XML et X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08000" y="1197000"/>
            <a:ext cx="5040360" cy="291960"/>
          </a:xfrm>
          <a:prstGeom prst="rect">
            <a:avLst/>
          </a:prstGeom>
          <a:noFill/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Tahoma"/>
              </a:rPr>
              <a:t>&lt;?xml version="1.0" en_oding="ISO-8859-1" ?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0920" y="1700280"/>
            <a:ext cx="4321080" cy="2810160"/>
          </a:xfrm>
          <a:prstGeom prst="rect">
            <a:avLst/>
          </a:prstGeom>
          <a:noFill/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bibiothequ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livre nom="Guerre et paix"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auteur="Léon Tolstoï"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genre="roman" /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livre nom="Fondation"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auteur="Isaac Asimov"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genre="science-fiction" /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livre nom="La nuit du renard"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auteur="Mary Higgins Clark"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genre="policier" /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/bibliothequ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0" y="1700280"/>
            <a:ext cx="4321080" cy="4339440"/>
          </a:xfrm>
          <a:prstGeom prst="rect">
            <a:avLst/>
          </a:prstGeom>
          <a:noFill/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bibliothequ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livr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nom&gt;Guerre et paix&lt;/nom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auteur&gt;Léon Tolstoï&lt;/auteu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genre&gt;roman&lt;/genre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/livr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livr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nom&gt;Fondation&lt;/nom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auteur&gt;Isaac Asimov&lt;/auteu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genre&gt;science-fiction&lt;/genr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/livr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livr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nom&gt;La nuit du renard&lt;/nom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auteur&gt;Mary Higgins Clark&lt;/auteu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genre&gt;policier&lt;/genr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/livr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/bibliothequ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4292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XS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