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2A2-25EF-4758-B1CE-D76CC355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59C-B97A-4A98-A2AD-F02D6804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3A4-1153-48DD-BBEB-3A5F4374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A21-4D68-4E5B-A57D-E35B7870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88C9-1A0E-444F-A4AA-FE4B1083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2FAA-5D3C-482C-83B4-746453C9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180B-787D-416A-8BAC-7DEB8E98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DB0A-2F48-42BD-80D9-B0D17EE3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E9D1-03A4-482A-B7DE-3CC5422E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382D-4BCA-4049-B012-82D9580F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D73A-192E-4E8C-A0CC-36797119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59F-FCF0-4210-B3BA-7436F7F3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B15A-D060-45A1-A0E8-36DEA4E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1AA9-F49B-41E5-9BDA-F57E058F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7080-3FF1-4952-9DE8-17498CC7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56AC-A46E-414E-96AE-67D60E5B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5B66-151A-4542-B8C3-BC3A8033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5ACD-979F-4F27-823F-05125039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1E49-B67C-48FF-BFB3-909A18BC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2D1E4-8253-4CE6-89AD-B3A31704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0493E-249E-45F6-BD94-AC66F7FC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8CAE-E0F5-4FF1-B0AC-378DD58F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AD1-9A0D-4F39-81A5-AAE62238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4D3B6-9871-4A0E-8A1D-0DED03AA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8B74-653A-4B64-88AC-8D779762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5CC47-00CA-480C-AE71-C76D1AAA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F9F1F-3DBE-4B5C-9AE0-E4730DB2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523D-208E-40A9-A553-CD6A572F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8C90D-E1CA-4433-9D75-161575E5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5432-1226-4366-9B75-AB9E4164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DD5-BD49-481A-A190-5F5223BF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144C-8106-43F3-8B54-4A820267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8CF-8A67-49DD-A2C0-543E8AD0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64054-1BF8-4F2F-ACC4-0F8C6FE2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E6994-A047-422B-B0A7-39DD9AF2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690DC-4300-4B1A-B476-0B7ED8A4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FE23B-D78A-46BB-9F2F-13E13C04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D9142-5B5F-442B-A485-E35926B1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ED6D4-722B-4680-9847-FFD68DA7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3ED33-ADFF-4924-BE80-2422927F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244FF-57AB-462F-97F6-C2048420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0A6F-B243-4C30-A8E7-7B20FDF0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5C12A-F0C3-4D6E-899E-A66DA02B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945-7B29-4138-8D9F-212612FF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675BA-3EE8-45CD-8130-47C7794E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647C-5B25-458E-8404-391FA369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E19-B3A1-4506-922F-D16AAF65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A25-2166-4400-BBE9-38FB2EF8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2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1DF7-374B-487D-94FE-E306B17A5B68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46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206E-53F8-4DF3-9644-13BA67FF36CA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D107-1395-4CC4-863B-036CA50F6622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How does this work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349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349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D82A-FF47-49F5-8C9A-C27699EEBAAD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63280" y="2276280"/>
            <a:ext cx="5722920" cy="11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CA" sz="3000" spc="-1" strike="noStrike">
                <a:solidFill>
                  <a:srgbClr val="d2533c"/>
                </a:solidFill>
                <a:latin typeface="Arial"/>
              </a:rPr>
              <a:t>FINDING</a:t>
            </a:r>
            <a:br>
              <a:rPr sz="3000"/>
            </a:br>
            <a:r>
              <a:rPr b="0" lang="en-CA" sz="3000" spc="-1" strike="noStrike">
                <a:solidFill>
                  <a:srgbClr val="d2533c"/>
                </a:solidFill>
                <a:latin typeface="Arial"/>
              </a:rPr>
              <a:t>EMPIRICAL AND CHEMICAL FORMULAS BY EXPERIMENT</a:t>
            </a:r>
            <a:endParaRPr b="0" lang="en-US" sz="3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766520" y="3668760"/>
            <a:ext cx="5553000" cy="13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hemistry 11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Ms. McGrath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Finding Empirical and Chemical Formulas</a:t>
            </a:r>
            <a:br>
              <a:rPr sz="2800"/>
            </a:b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by Experiment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We know how to find percentage composition of a compound using its chemical formula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Often, the chemical formula is not known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Experimentation is then used to determine the percentage composition, molar mass then the chemical formula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Finding Empirical and Chemical Formulas</a:t>
            </a:r>
            <a:br>
              <a:rPr sz="2800"/>
            </a:b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by Experiment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292934"/>
                </a:solidFill>
                <a:uFillTx/>
                <a:latin typeface="Arial"/>
              </a:rPr>
              <a:t>Carbon- Hydrogen Combustion Analyzer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An instrument that is used to analyze the amount of hydrogen, carbon and oxygen in important chemical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It determines the percentage composition of compounds that are made up of these three element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Content Placeholder 3" descr=""/>
          <p:cNvPicPr/>
          <p:nvPr/>
        </p:nvPicPr>
        <p:blipFill>
          <a:blip r:embed="rId1"/>
          <a:stretch/>
        </p:blipFill>
        <p:spPr>
          <a:xfrm>
            <a:off x="787320" y="2597040"/>
            <a:ext cx="76266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How does this work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How does this work?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Compounds containing carbon and hydrogen will burn in a stream of pure oxygen, O2, to produce only carbon dioxide and water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If a sample contains only carbon and hydrogen you can find the mass of the products (CO2 and H2O) separately to determine the mass percent of the compound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6" name="Content Placeholder 3" descr=""/>
          <p:cNvPicPr/>
          <p:nvPr/>
        </p:nvPicPr>
        <p:blipFill>
          <a:blip r:embed="rId1"/>
          <a:stretch/>
        </p:blipFill>
        <p:spPr>
          <a:xfrm>
            <a:off x="1276200" y="2722680"/>
            <a:ext cx="63993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A 1.000 g sample of a pure compound, containing only carbon and hydrogen, was combusted in an analyzer.  The combustion produced 0.6919 g of water and 3.338 g of carbon dioxide. 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Calculate the mass of carbon and hydrogen in the sample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Find the empirical formula of the compound.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20:15:40Z</dcterms:created>
  <dc:creator>Tammy</dc:creator>
  <dc:description/>
  <dc:language>en-US</dc:language>
  <cp:lastModifiedBy>SHS</cp:lastModifiedBy>
  <dcterms:modified xsi:type="dcterms:W3CDTF">2013-10-09T13:56:24Z</dcterms:modified>
  <cp:revision>12</cp:revision>
  <dc:subject/>
  <dc:title>Finding Empirical and Chemical Formulas by Experiment</dc:title>
</cp:coreProperties>
</file>