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F9C-72CC-4CC0-87CC-E448C408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CE8-96E6-454E-BA84-140F6359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D0A-5709-47E1-901B-49DA32A8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41B-5E80-469B-A48D-B03BC45F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4063-00DB-4776-8738-E39E8FB2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82CE-FD3B-47E3-BC9A-502B21A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B62B-E1FF-4065-8A0E-7351722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A05-C893-4F9F-AE0D-D8B0F56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BAF9-FF51-46E2-A431-304074EC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63E1-F579-48D8-89AB-7AAA3625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533-6D31-41AF-9BCC-779A1285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CBF-77BE-4137-A8CE-091324FE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04F7-9AD3-484D-BA38-C36AA82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4CD-AB71-4BCC-81B9-1C8F17F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831B-3E2F-4F25-849C-E52511C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6B90-9982-4451-B963-30A54FA6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7F38-7CAA-46AF-8C5C-9C378D16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921-931B-47D8-AA76-5E6E3697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0B1-8A33-46FD-B26E-F5FAC5BB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387-C4D1-478D-A294-FE768CCC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53F-9A19-44A0-BAC2-30330568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5AB-AC55-43F0-8816-68EC4694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9E2-D4E8-45D2-B19C-B7852DB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531-D980-4F9F-AAD0-78BB0CE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2C3-EBC8-425F-B8E5-3DB60EA2549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AD1C-8201-4E5F-94FA-5EAAD2AAC15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184880" cy="474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53360" y="5438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间套还可表达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39640"/>
            <a:ext cx="7304040" cy="471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259240"/>
            <a:ext cx="76770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4040" y="762120"/>
            <a:ext cx="7840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6387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773280"/>
            <a:ext cx="69976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9160" y="533520"/>
            <a:ext cx="7937640" cy="43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8080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97040" y="758880"/>
            <a:ext cx="69753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208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7805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7040" y="523800"/>
            <a:ext cx="7813440" cy="461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9880" y="5029200"/>
            <a:ext cx="7837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782640"/>
            <a:ext cx="6885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0760" y="812880"/>
            <a:ext cx="69217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671400"/>
            <a:ext cx="74613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60360"/>
            <a:ext cx="7921800" cy="451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4962600"/>
            <a:ext cx="6897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835200"/>
            <a:ext cx="725508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57360"/>
            <a:ext cx="73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698400"/>
            <a:ext cx="715644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3080" y="1038240"/>
            <a:ext cx="6416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735120"/>
            <a:ext cx="69469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8280360" cy="47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5321160"/>
            <a:ext cx="5545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543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709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3480" y="674640"/>
            <a:ext cx="6956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7:25Z</dcterms:created>
  <dc:creator>lwl</dc:creator>
  <dc:description/>
  <dc:language>en-US</dc:language>
  <cp:lastModifiedBy>lk</cp:lastModifiedBy>
  <dcterms:modified xsi:type="dcterms:W3CDTF">2005-06-30T00:58:53Z</dcterms:modified>
  <cp:revision>21</cp:revision>
  <dc:subject/>
  <dc:title>幻灯片 1</dc:title>
</cp:coreProperties>
</file>