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6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CD5-C396-42E0-AFD8-7ADD0108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753-84FF-43F2-84AE-F1819943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116FE-34A8-4266-BCBF-0656B153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900EA-B1D1-4FA1-8804-8835F31D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AE094-C733-4F1A-9AB0-547C0590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1F0A1-26DB-4333-B62F-1A3441B8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E0DAD-6B2C-48B9-9FD7-6F4144F7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69CF5-52E2-4321-87E6-83C61908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9184D-F095-48D0-B24B-FA9E1029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F64B5-3937-4DF2-92C0-C129C382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40CCE-D50A-41CE-84A2-5FD4C092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58736-642F-4150-A907-91952BCF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A53-90EF-4C72-A4AD-1C9E8D7F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EF076-F3A0-474B-AB6A-A60758C8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73F70-365F-449B-A44B-C5B22ACE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5192D-F8F2-422C-B860-BB6CF355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252C3-1D0A-4335-A621-E60BDB4A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3626B-36EF-4A10-A88B-114DCF64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6C26B-AF43-448C-9CB8-F3238494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E58BA-550D-4092-A8F1-660F29DD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515C9-C0C3-4ADC-85D2-BF60E6B0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5BB8F-DC2F-49DF-A151-ADC26492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20BB3-FD8E-44FD-B75C-3259497A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C48-4377-486E-B945-40331333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D38AE-0C51-48A2-A56B-C4FB01FD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3D55-AC6D-478D-A281-6AFA51C3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F301-8C61-4787-A1C2-791662D1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8591-2CDB-472A-8AE5-2EF38A04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E24E-F465-45BD-A976-60802D1B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5138-CB64-46A8-94D6-C2E56867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D7BE-DD4F-415B-935A-CD3F8D79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C49B-1873-4CD7-AFEB-15344774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526-C391-4DA7-9300-516F8C83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9813-C2CC-4641-A7F0-B604AA3C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5622-0D4C-4367-8184-F0CAEBB0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ADDB-9BCD-4B45-A84E-7D8BB411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3928-70C6-45C5-8BC7-68934FA1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C621-8E01-4C72-BF90-A09F9047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CC913-B96B-4976-AD8E-BBC7FBBF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2CDB0-6DE9-4A3C-8D0B-15DB8C96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C455C-288C-4D82-AC55-17AADE5A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FD7E5-0D80-4F75-8A1D-D25C9EF2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55D74-4AB6-4075-AE7A-ED69AC01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2BB-E69F-4EE1-887E-1206F7A3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70B0E-D1B6-4AC0-9C41-A2D2E8C0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628F-099F-42C0-86FD-D6F65685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47A5-5564-472C-9082-67B35A21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7704-8368-44F9-B7FD-7DC34E57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D16F-490F-486F-9A3A-4DF12646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CF8D9-FD31-4F01-BC42-74938486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2ADC-F467-420C-AEAE-E5DB9BEE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27A6E-4E91-45C9-B233-CD87144D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1855C-4799-4764-A8E3-BD1B56E7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CCF13-6EA2-4CF3-9A12-0BBE2265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788-9E29-4A37-8B32-FC0D631F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7AB2E-4312-4547-9A9C-E59156E1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EF795-46BA-4767-A010-A72CD0DF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47FC9-E725-40F5-BDE4-39020558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F2150-F0BA-4F63-8AEB-512D0D41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09B14-5053-489D-8EF2-382DFF62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F00AF-F16E-4B09-9FAD-5A5F1B1B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651E6-94C2-4AE4-B2D0-CC128406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016F9-6872-4D7F-AB3E-8CEDC211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3C729-B245-4C43-963B-E5B7988A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90DB3-F13E-4769-9CBB-0826AEFC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7E0-D0D8-403F-B240-61E374A9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8426B-3593-4926-8231-9B2304CE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C4C37-482F-4F40-896E-372A3200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C3F1F-4203-4004-BB2B-A0341A1E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88FD3-FAB7-491D-B46A-25AB2A7D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7B986-145F-4409-8922-246A51D8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225D5-8F1D-4DE4-BB25-04C8491B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2852F-515A-43CE-82CF-49E3066E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5F49A-D02B-45B2-A401-208ECDB5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8D6D8-2394-4462-B34F-8679E161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4A0E9-5CF9-402B-8E84-0202409B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55C-1A86-416B-9EFB-4F7DC928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959B7-F8B7-487D-A42C-6BA40308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5B381-69C3-41F0-90AD-75AE399B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0BB2B-60CE-4D38-AE30-729D9CFF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5D9DF-868E-4D76-9E88-DC79C59B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1535B-EBE5-4082-B309-40831D76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EE0AC-B10B-4AD9-A075-DF7F5704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FB0BB-B88E-4CED-B824-572D095F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0F5CB-8730-4F6B-8A5D-1C8F1251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DE3B3-5FAD-439F-AFBF-728BFB0C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9934C-67E6-407A-A7FA-01385395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FEF-9F1C-4F25-93A1-31101AE0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EB025-679F-49B1-ADBD-D75093F7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78660-BD7F-4AD6-A50B-7862107A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65E42-2378-4224-A0FB-68EB61A1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A59D5-EAFA-4BF8-8DEC-9CF84C8C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107B4-ADE2-401C-A657-7DADC972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7F691-9E44-481D-84AF-8E7EBA93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20ED6-6619-4733-A48C-E128BBF5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59D68-A2BB-4814-9A26-A58C2DF1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773CD-3629-44B2-92A0-FE9E2C57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69854-9FFF-4608-970A-918EFB4B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2C3-0F3A-4C04-9438-A41BE36E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8B0CC-0256-47E1-BDAF-151AAE62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8C875-19B3-44A7-B872-2951C97B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36626-B641-4A05-82A2-9C151EBE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B3134-32A4-428E-B728-A0AF7398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0DB90-2C68-4ADD-80D3-13900918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19D9D-B3E0-4B05-BB90-D81275E8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02F67-E872-4142-84A0-1044A335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6B191-6650-41D3-B534-8601B127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5CF55-4DCE-45EE-9138-0E7E583E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69008-2F0C-42B7-9815-6786B647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0A4-CABA-4AAE-94BB-2BC57643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6AB86-1AD0-4C76-A65C-56FFA318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95734-F2B7-4B28-B55E-5A49A910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F74AE-905D-4487-90CF-B7E6DC09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53143-E72C-4433-B86F-C337C886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53A0E-F279-4708-AD8A-CAE24464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29807-E8A5-407B-BA7D-7D8FB0EC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87C52-464E-48AE-BB52-D2F959BD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4A6DD-6435-474C-B19F-7CF12A89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1A1CD-80CA-46D2-8F64-D2BE02AA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F2A05-C256-40BE-88EC-5CE02415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-29865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1258-C442-4911-9919-DF4A54D0062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303680" y="54720"/>
            <a:ext cx="2148120" cy="2075040"/>
            <a:chOff x="7303680" y="54720"/>
            <a:chExt cx="2148120" cy="2075040"/>
          </a:xfrm>
        </p:grpSpPr>
        <p:grpSp>
          <p:nvGrpSpPr>
            <p:cNvPr id="39" name=""/>
            <p:cNvGrpSpPr/>
            <p:nvPr/>
          </p:nvGrpSpPr>
          <p:grpSpPr>
            <a:xfrm>
              <a:off x="7303680" y="54720"/>
              <a:ext cx="2148120" cy="2075040"/>
              <a:chOff x="7303680" y="54720"/>
              <a:chExt cx="2148120" cy="207504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303680" y="54720"/>
                <a:ext cx="2148120" cy="1695960"/>
                <a:chOff x="7303680" y="54720"/>
                <a:chExt cx="2148120" cy="16959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7318440" y="434880"/>
                  <a:ext cx="2133360" cy="120348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0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0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B2AA-3FD9-4D36-99E4-466054540B5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170D-5FA4-453B-A410-8F6D4F3A9CA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e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e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e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e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e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e0000"/>
          </a:solidFill>
          <a:ln w="9360">
            <a:solidFill>
              <a:srgbClr val="c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6F4B-2E6B-46BB-8D40-7361F8E9A8E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C274-64E8-4E28-8E76-503B3449DE1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922C-20E7-4FC8-A617-C63A38EF68A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8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8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8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FCFE-FF72-4F8F-82EC-F85D29213E8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3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4FAA-0241-4D36-BA30-40A80070661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8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8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8981-666E-4042-9C3B-B9555F2FBE3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3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5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EC66-9006-44E6-9694-90ACB4C6A9A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0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-2268360" y="259920"/>
            <a:ext cx="1083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Мусина Раушания Гатуфовн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Учитель истории и обществознан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Ġ  Новонадыровской средне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общеобразовательной школы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Альметьевского муниципального район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Общий педагогический стаж 17лет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в данной школе 12 л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Учитель </a:t>
            </a: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квалификационной категор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Тема аналитической справки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«Формирование и развитие компетентности обучающихс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на уроках истории и обществознания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Технологическая компетентност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Готовность к самообразованию (образованию через всю жизнь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Информационная компетентност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Коммуникативная компетентност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Социальная компетентность (готовность к продуктивному социальному взаимодействию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Готовность делать осознанный и ответственный выбор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604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686800" y="-53074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24000" y="1052640"/>
            <a:ext cx="8603280" cy="4893840"/>
            <a:chOff x="324000" y="1052640"/>
            <a:chExt cx="8603280" cy="4893840"/>
          </a:xfrm>
        </p:grpSpPr>
        <p:cxnSp>
          <p:nvCxnSpPr>
            <p:cNvPr id="587" name="_s109582"/>
            <p:cNvCxnSpPr>
              <a:stCxn id="588" idx="0"/>
              <a:endCxn id="589" idx="2"/>
            </p:cNvCxnSpPr>
            <p:nvPr/>
          </p:nvCxnSpPr>
          <p:spPr>
            <a:xfrm flipV="1" rot="16200000">
              <a:off x="5644440" y="1992960"/>
              <a:ext cx="973080" cy="3011760"/>
            </a:xfrm>
            <a:prstGeom prst="bentConnector3">
              <a:avLst>
                <a:gd name="adj1" fmla="val 11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0" name="_s109581"/>
            <p:cNvCxnSpPr>
              <a:stCxn id="591" idx="0"/>
              <a:endCxn id="589" idx="2"/>
            </p:cNvCxnSpPr>
            <p:nvPr/>
          </p:nvCxnSpPr>
          <p:spPr>
            <a:xfrm flipV="1">
              <a:off x="4625280" y="3012480"/>
              <a:ext cx="3240" cy="973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2" name="_s109580"/>
            <p:cNvCxnSpPr>
              <a:stCxn id="593" idx="0"/>
              <a:endCxn id="589" idx="2"/>
            </p:cNvCxnSpPr>
            <p:nvPr/>
          </p:nvCxnSpPr>
          <p:spPr>
            <a:xfrm flipH="1" flipV="1" rot="5400000">
              <a:off x="2633400" y="1993320"/>
              <a:ext cx="973080" cy="3011760"/>
            </a:xfrm>
            <a:prstGeom prst="bentConnector3">
              <a:avLst>
                <a:gd name="adj1" fmla="val 11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 txBox="1"/>
            <p:nvPr/>
          </p:nvSpPr>
          <p:spPr>
            <a:xfrm>
              <a:off x="3335040" y="1052640"/>
              <a:ext cx="2580840" cy="196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Диагностик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учебн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достижен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324000" y="3985920"/>
              <a:ext cx="2580840" cy="196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Успеваемость  и качеств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образования по истор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3335040" y="3985920"/>
              <a:ext cx="2580840" cy="196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% учащихся повысивши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итоговую оценк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6346440" y="3985920"/>
              <a:ext cx="2580840" cy="196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Успеваемость и качеств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образования по обществознани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8" name=""/>
            <p:cNvGraphicFramePr/>
            <p:nvPr/>
          </p:nvGraphicFramePr>
          <p:xfrm>
            <a:off x="3347280" y="4511160"/>
            <a:ext cx="2592360" cy="136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7280" y="4511160"/>
                      <a:ext cx="2592360" cy="136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00" name=""/>
          <p:cNvGraphicFramePr/>
          <p:nvPr/>
        </p:nvGraphicFramePr>
        <p:xfrm>
          <a:off x="324000" y="4005360"/>
          <a:ext cx="2592360" cy="151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005360"/>
                    <a:ext cx="2592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270440" y="2809080"/>
            <a:ext cx="2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993366"/>
                </a:solidFill>
                <a:latin typeface="Tahoma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613840" y="3388680"/>
            <a:ext cx="432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6300720" y="4005360"/>
          <a:ext cx="2664000" cy="1512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4005360"/>
                    <a:ext cx="266400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Внеурочная деятельность обучающих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едение кружка  «Юный краевед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Работа с одаренными деть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Привлечение 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сследовательско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деятельност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24000" y="1628640"/>
          <a:ext cx="8951760" cy="14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895176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"/>
          <p:cNvSpPr/>
          <p:nvPr/>
        </p:nvSpPr>
        <p:spPr>
          <a:xfrm>
            <a:off x="0" y="2881800"/>
            <a:ext cx="56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dff"/>
                </a:solidFill>
                <a:latin typeface="Arial"/>
                <a:ea typeface="Times New Roman"/>
              </a:rPr>
              <a:t>Районный тур олимпи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281240" y="1407960"/>
            <a:ext cx="182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436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08000" y="3213000"/>
          <a:ext cx="5067360" cy="2535480"/>
        </p:xfrm>
        <a:graphic>
          <a:graphicData uri="http://schemas.openxmlformats.org/drawingml/2006/table">
            <a:tbl>
              <a:tblPr/>
              <a:tblGrid>
                <a:gridCol w="1079280"/>
                <a:gridCol w="432000"/>
                <a:gridCol w="431640"/>
                <a:gridCol w="319320"/>
                <a:gridCol w="407880"/>
                <a:gridCol w="385920"/>
                <a:gridCol w="487080"/>
                <a:gridCol w="382680"/>
                <a:gridCol w="382680"/>
                <a:gridCol w="380880"/>
                <a:gridCol w="37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/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6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/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/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лимпиад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вед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Х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ы предприним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ой деятельности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</a:tbl>
          </a:graphicData>
        </a:graphic>
      </p:graphicFrame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 rot="784800">
            <a:off x="5076720" y="4508280"/>
            <a:ext cx="1195560" cy="18000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4"/>
          <a:stretch/>
        </p:blipFill>
        <p:spPr>
          <a:xfrm rot="777600">
            <a:off x="5931000" y="4722480"/>
            <a:ext cx="1152360" cy="181764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5"/>
          <a:stretch/>
        </p:blipFill>
        <p:spPr>
          <a:xfrm rot="759000">
            <a:off x="6877080" y="4581000"/>
            <a:ext cx="1150920" cy="18734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6"/>
          <a:stretch/>
        </p:blipFill>
        <p:spPr>
          <a:xfrm rot="680400">
            <a:off x="7885080" y="4652640"/>
            <a:ext cx="112248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Учитель как классный руководител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-395280" algn="ctr">
              <a:spcBef>
                <a:spcPts val="476"/>
              </a:spcBef>
              <a:buClr>
                <a:srgbClr val="ce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Классный руководитель – это посредник между обществом и растущей личностью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ctr">
              <a:spcBef>
                <a:spcPts val="476"/>
              </a:spcBef>
              <a:buClr>
                <a:srgbClr val="ce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Классный руководитель координатор совместных действии педагогов, семьи и творец повседневной деятельности детей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 rot="20541600">
            <a:off x="495000" y="3251160"/>
            <a:ext cx="2133720" cy="17114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 rot="1111200">
            <a:off x="6532200" y="3468240"/>
            <a:ext cx="2243160" cy="17478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4"/>
          <a:stretch/>
        </p:blipFill>
        <p:spPr>
          <a:xfrm>
            <a:off x="6084720" y="4941720"/>
            <a:ext cx="2433960" cy="17589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468360" y="4846680"/>
            <a:ext cx="2158920" cy="18270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3132000" y="3284640"/>
            <a:ext cx="2376720" cy="18208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2987640" y="5103720"/>
            <a:ext cx="2664000" cy="17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временные образовательные технолог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спользование  компьютерных технологии на уроках истории и обществознания делает труд педагога эффективны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ождает интерес к знаниям, дает возможность ученику самостоятельно усвоить учебный материа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еспечивает  учащихся необходимой информацией, способствует формированию саморазвития и самопозна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вивает творческий и интеллектуальный потенциал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бобщение и распространение педагогического опыта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24000" y="2361960"/>
            <a:ext cx="8712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4/2005 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ткрытый урок в 5 классе для директоров школ Альметьевского района и г. Альметьевск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5/2006 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е на семинаре РМО учителей истории и обществознания на тему «Интеграция на уроках истории и обществознания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6/2007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е внеурочное мероприятие для участников семинара РМО учителей истории и обществознания, которая проходила на базе Новонадыровской средней общеобразовательной школ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е перед слушателями ИНПО г. Набережные Челны на тему: «Краеведение в системе работы учителя истории»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7/2008 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муниципальном конкурсе «Учитель года»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8/2009 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заседании круглого стола по теме «Инновационная деятельность учителя истории и обществознания» в ходе региональных курсов повышения квалификации учителей истории и обществозна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Публик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здательстве «Открытый урок» г.Казань вышли  публикации: «Страна большого Хапи»- февраль 2007 г.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 чем говорит таинственный сундук?»- май 2007г.( на татарском языке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нк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24000" y="2017800"/>
            <a:ext cx="466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В 2006/2007 учебном году УО Альметьевского муниципального района  был объявлен  районный конкурс на «Лучший кабинет истории». Я приняла участие в конкурсе и была награждена дипломом УО в номинации «За инновационный подход при организации и проведении урочной и внеурочной деятельности»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В 2007/2008 учебном году принимала участие в муниципальном конкурсе «Учитель года»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В 2008 году участвовала в муниципальном этапе Республиканского конкурса среди семей Республики Татарстан «Гордость Татарстана» номинация «Трудовая династия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1873080" cy="252108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7054920" y="3933720"/>
            <a:ext cx="1909800" cy="251964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27734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вышение квалифик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вышение своей квалификации -это стремление учителя к постоянному повышению своей профессиональной компетентности.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0 году повышала  квалификацию а ИПКРО г.Казань по теме «Новые технологии в изучении предметов образовательной области «Обществознание».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1 году аттестовалась н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квалификационную категорию по должности «учитель»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2 году проходила курсы повышения при ИНПО г. Набережные Челны по проблеме «Методическая система учителя образовательной области «Обществознание»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3 году прошла обучение в ИПКРО г. Казань на курсах «Дидактическая система использования культурно-нравственных ценностей мировых религий в общеобразовательной школе»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6 году  успешно прошла аттестацию н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валификационную категорию по должности «учитель».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7 году прошла курсы по теме «ИКТ в педагогической деятельности», которую организовали Региональный координационный центр и ММЦ Альметьевского муниципального район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8 году прошла обучение в ИНПО г. Набережные Челны РТ по теме «Актуальные вопросы исторического и обществоведческого образования в старшей (полной)школе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7:37:34Z</dcterms:created>
  <dc:creator>User</dc:creator>
  <dc:description/>
  <dc:language>en-US</dc:language>
  <cp:lastModifiedBy>Customer</cp:lastModifiedBy>
  <dcterms:modified xsi:type="dcterms:W3CDTF">2010-05-29T05:44:42Z</dcterms:modified>
  <cp:revision>53</cp:revision>
  <dc:subject/>
  <dc:title>Мусина Раушания Гатуфовна</dc:title>
</cp:coreProperties>
</file>