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5175"/>
        <c:axId val="49464573"/>
      </c:barChart>
      <c:catAx>
        <c:axId val="1065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64573"/>
        <c:crosses val="autoZero"/>
        <c:auto val="1"/>
        <c:lblAlgn val="ctr"/>
        <c:lblOffset val="100"/>
        <c:noMultiLvlLbl val="0"/>
      </c:catAx>
      <c:valAx>
        <c:axId val="49464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BAD-9570-43BA-9517-8F5F5A6C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9F8-E879-433C-9071-2AA34AE7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C8B-4E23-4E1B-8407-34974EA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B77-77C1-4C79-AAB8-14BEF827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2A3-9417-4CAF-B339-BC119A0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85A-032B-4683-A1F2-9C7A3939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A0B-53FF-4648-A35F-67192C81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797-B783-49A3-9970-5BC878BB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6AC-5C69-4481-A993-98E6CBC8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A34-F29F-4C3D-90F6-96595A4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512-033C-4189-9F9D-F532A10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9B9-EA55-41DB-B5EF-20A1142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1A78-6C77-4897-B036-F7B03231D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