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79458"/>
        <c:axId val="57290485"/>
      </c:barChart>
      <c:catAx>
        <c:axId val="61179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90485"/>
        <c:crosses val="autoZero"/>
        <c:auto val="1"/>
        <c:lblAlgn val="ctr"/>
        <c:lblOffset val="100"/>
        <c:noMultiLvlLbl val="0"/>
      </c:catAx>
      <c:valAx>
        <c:axId val="57290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9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5AE-21A6-4E1A-95DF-11F3C0B0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3BC-41C7-4231-8EA1-A834FD86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BF1-C1E0-474D-BA84-A17BEA07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D29-8C3A-47DA-9E14-6E625099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156-C11D-49A0-95EF-0D116908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A86-BFF6-452D-9477-1A5696B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9A1-EA1A-45B2-94CF-51B69F4B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678-5D2C-4115-8220-6A1B07FD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999-7DB2-4EEA-8989-447E194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90F-4EB6-459A-99A4-DD41466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7C8-CFB9-46E5-9C79-0716ECA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3B6-54DE-4B7D-8242-F50CB3E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5CA1A-43A3-4CB4-B25E-5D7D7145CD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