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25759"/>
        <c:axId val="26779287"/>
      </c:barChart>
      <c:catAx>
        <c:axId val="21257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79287"/>
        <c:crosses val="autoZero"/>
        <c:auto val="1"/>
        <c:lblAlgn val="ctr"/>
        <c:lblOffset val="100"/>
        <c:noMultiLvlLbl val="0"/>
      </c:catAx>
      <c:valAx>
        <c:axId val="267792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257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51C0-D21D-4ED0-837F-71A9D77F8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F661-1B5A-4F10-8796-A662F62F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27E3-FCE7-4356-A22C-1CFBA0576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38C0-46C1-4AB7-A104-B33A28B87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FF59-B03E-45F0-957F-671C9A04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0267-4981-42C0-AC16-6AF41BD1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D1FF-ADEB-48E6-A780-89F896B7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998E-E558-45F4-95B4-CD59BEAC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20E9-1389-47D5-AC25-99F01C33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5FBD-ACE3-4B8E-A46E-9C2823A9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9CFF-7531-4EAC-84ED-89A27B64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E862-F825-4379-A12D-883EE166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BC31D-D1C3-4326-A77C-2DD18896CC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