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28344"/>
        <c:axId val="63290194"/>
      </c:barChart>
      <c:catAx>
        <c:axId val="92928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90194"/>
        <c:crosses val="autoZero"/>
        <c:auto val="1"/>
        <c:lblAlgn val="ctr"/>
        <c:lblOffset val="100"/>
        <c:noMultiLvlLbl val="0"/>
      </c:catAx>
      <c:valAx>
        <c:axId val="63290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28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C11-C655-48DA-96F1-663B302F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922-EFF9-4E91-BFE9-C4390B61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024-A26A-4A2E-BC2E-48BAEEC6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0F3-E819-4EAB-85CD-FC17F871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FDB-D741-4D6A-8F49-25D063A5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133-15BF-4608-A5CD-00643B1A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E86-F87F-4ADB-AE7C-B29760D7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3B4-911C-4820-8A21-17987A7A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79B-39DF-4F0F-9D1F-C8FFA8A6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E5E-DFB7-4CC0-A11E-6CD85B3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8AB-9262-4F8C-AA5F-F203937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8FC-8275-4ACB-B0BD-60EC924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3F34D-7154-42A4-B6AF-CA3AE87A90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