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556090"/>
        <c:axId val="6144128"/>
      </c:barChart>
      <c:catAx>
        <c:axId val="345560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44128"/>
        <c:crosses val="autoZero"/>
        <c:auto val="1"/>
        <c:lblAlgn val="ctr"/>
        <c:lblOffset val="100"/>
        <c:noMultiLvlLbl val="0"/>
      </c:catAx>
      <c:valAx>
        <c:axId val="61441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5560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BB2C-2BA2-42E5-AA82-31A39660D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FA65-25FF-47BE-A8DE-12A322AEA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8039-0591-4016-BCEE-291F56635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629C-5644-4F9F-BC41-5B3D995F2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A94A-65A6-4606-BD0D-5D86F0AF7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38B2-7286-4F3C-8D2B-D2BD62D77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55F0-A1C4-41D9-AAF9-F8D2CCAD4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EAEA-CF1D-45B9-8333-BFDD80130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ACE3-9C40-48F2-B7E6-C540ED0D8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E4C1-E8FF-4828-ABF1-0282377AF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88D6-F077-4EC5-A11D-2DF07FFA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271F-718B-4F28-BB5F-1C395C61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5E5DFA-33E8-4E7C-9A24-0D052C1E90A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