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33929"/>
        <c:axId val="79287389"/>
      </c:barChart>
      <c:catAx>
        <c:axId val="705339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87389"/>
        <c:crosses val="autoZero"/>
        <c:auto val="1"/>
        <c:lblAlgn val="ctr"/>
        <c:lblOffset val="100"/>
        <c:noMultiLvlLbl val="0"/>
      </c:catAx>
      <c:valAx>
        <c:axId val="792873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339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2B3-2778-4A8B-9B0F-F0271B57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DE3-F347-4C79-B130-49D7ED8E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0BE-AD8A-4689-8EE3-1100A392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FE9-03CE-42C6-A064-8BAADEAF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3A25-F863-492C-924C-43A53A21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379-0C71-4E49-9B26-4CC9036A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CF56-D7F0-4E98-A0B6-9AD2E4A4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A3C3-38F1-4A37-8F30-3A6E0B3A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A08-433F-4C1E-A3C2-C2D25FA6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AF80-CD57-4448-AD09-9FB2B196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64FA-7729-4595-989F-65486715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B3AC-0189-4E3B-A870-394B7C6B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F6E75-3756-4634-90D6-19547BD0FE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