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659835"/>
        <c:axId val="17329434"/>
      </c:barChart>
      <c:catAx>
        <c:axId val="626598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29434"/>
        <c:crosses val="autoZero"/>
        <c:auto val="1"/>
        <c:lblAlgn val="ctr"/>
        <c:lblOffset val="100"/>
        <c:noMultiLvlLbl val="0"/>
      </c:catAx>
      <c:valAx>
        <c:axId val="173294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6598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1B8D-4B72-4BC3-BED3-2A28911AE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A3E2-09EC-4475-9967-4259AF12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D8F5-0105-4396-B026-7BEE9F653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B499-15EA-4D61-B2D0-03407D693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35A7-606D-49D3-97AB-03E94B8D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5864-6115-4734-9E49-72E04AE2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EAF5-1C86-485C-A106-9FC45D9D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7297-40FE-4840-91C9-36404597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190D-0AA1-42FF-A272-8A6578CB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431C-79BF-4CC7-AD2D-295355B9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634E-9372-4AA2-8585-B653A52E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BA09-7DDE-490C-8078-6B18CBCB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014F4E-DCAB-45A8-BC18-B6C7BC9550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