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42447"/>
        <c:axId val="518448"/>
      </c:barChart>
      <c:catAx>
        <c:axId val="29142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448"/>
        <c:crosses val="autoZero"/>
        <c:auto val="1"/>
        <c:lblAlgn val="ctr"/>
        <c:lblOffset val="100"/>
        <c:noMultiLvlLbl val="0"/>
      </c:catAx>
      <c:valAx>
        <c:axId val="518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42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EE3-ACA7-424A-AC22-93DDBBA6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BDE-A268-447C-BF8F-4D4BD49D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42C-E400-4A7D-87DD-4696BB22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3AB-8B50-4FA3-8B09-9EFAF9EF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7A3-3722-4323-931A-6C33C5DB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8B7-62F5-4ABD-8DA1-F6A6A62C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AF8-95C4-4AAA-A80B-5E87DD06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27C-0AD9-4ED1-8154-03501EE2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5BB-A7F9-4F35-B24A-0AB25DD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F31-8100-45AF-9D20-A0DFF50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9DE-8381-4AE1-BD64-AEB772C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7EC-E901-4BFC-8850-42DA5E9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275F4-E1B9-44EF-9A5E-A22AB35B3A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