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75146"/>
        <c:axId val="68021536"/>
      </c:barChart>
      <c:catAx>
        <c:axId val="6357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21536"/>
        <c:crosses val="autoZero"/>
        <c:auto val="1"/>
        <c:lblAlgn val="ctr"/>
        <c:lblOffset val="100"/>
        <c:noMultiLvlLbl val="0"/>
      </c:catAx>
      <c:valAx>
        <c:axId val="68021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7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DCF-4BDD-43A6-AB02-C2DAF2E0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27E-8909-482A-ABCD-F274B028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858-144A-4BA6-8A19-5301417E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B28-DBA2-4EA2-91D2-25B3A03E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148-B5EE-4AFB-ABF3-8C1A55EF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FA7-2679-4B7F-9DF8-06373018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8B7-5BB8-4FFB-B0A6-85A9B22C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516-EF54-44C3-91EF-F1B3525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24-ACE3-4F09-8833-E3F31927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BFB-7EAC-4706-90F5-8040F7F2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3AB-AA7D-43B1-98AD-DF139FD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F79-7A1B-438A-9D5F-84CC4DE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4F7D-57A7-4009-BECD-F8063E0AD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