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8855"/>
        <c:axId val="30516704"/>
      </c:barChart>
      <c:catAx>
        <c:axId val="7428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6704"/>
        <c:crosses val="autoZero"/>
        <c:auto val="1"/>
        <c:lblAlgn val="ctr"/>
        <c:lblOffset val="100"/>
        <c:noMultiLvlLbl val="0"/>
      </c:catAx>
      <c:valAx>
        <c:axId val="30516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F45-9DD5-4624-ADBF-B7374CF4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1A5-5E63-4852-88D0-94C054F0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0A1-E8CD-482B-865F-94219F19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E46-8A79-4FC0-9538-3317E406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2FA-1739-40D0-A108-BAC54D6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13C-7E54-4228-AA59-C8FEE5D7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196-4805-4050-A290-A86D3D1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B2F-DC3C-448E-8F91-D3FC55F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290-60DC-4CAD-B43B-1AB27B4F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A88-11DF-4C4E-B848-15988E3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635-5FC6-437C-B411-AB818B3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41B-3D90-4A36-AB50-5A00026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23390-892F-4F6B-9FF4-9580D194A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