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27765"/>
        <c:axId val="48517747"/>
      </c:barChart>
      <c:catAx>
        <c:axId val="11727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17747"/>
        <c:crosses val="autoZero"/>
        <c:auto val="1"/>
        <c:lblAlgn val="ctr"/>
        <c:lblOffset val="100"/>
        <c:noMultiLvlLbl val="0"/>
      </c:catAx>
      <c:valAx>
        <c:axId val="48517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27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AA5-7512-44F1-BCBD-2C2A88ED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92D-095F-45B3-9A7D-8FC7D718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C1C-7ECF-4584-A64C-94593F60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50C9-6C4B-4DE1-9294-84534DAE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855-AA8B-4721-9241-4A3D4CE8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463-9552-4B93-AFA7-35DA1AA1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0FD-771D-4CCE-B20A-92D4FBBB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0C3-E4A8-4B23-9E5A-0C57A51D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75D-14F7-4BA9-B833-2F39A075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CC4-AB2E-4110-B379-0124327F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5BE0-F9F1-4467-B16A-E45ECFD8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55F-7112-463F-93B6-6C1E81FC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7DBCD-3A8A-4793-AC4F-09DA4B8B0F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