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52790"/>
        <c:axId val="14480238"/>
      </c:barChart>
      <c:catAx>
        <c:axId val="93652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80238"/>
        <c:crosses val="autoZero"/>
        <c:auto val="1"/>
        <c:lblAlgn val="ctr"/>
        <c:lblOffset val="100"/>
        <c:noMultiLvlLbl val="0"/>
      </c:catAx>
      <c:valAx>
        <c:axId val="14480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52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244-DBEC-4B9A-8EDC-EAC65BAB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5DE-2C5A-4744-8BEC-BE83C442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36E-A269-4742-AAAC-8A2EB244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872-0F98-4935-8A3E-6549D021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4BB-C4F7-4542-90C1-8F3A8EA7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D0A-0A91-4FA8-B9C8-20ADE600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EE7-302A-4BEA-8312-F78712B7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22E-6935-44A7-9D04-0FAC8BDA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800-6BFC-45A9-851C-374973B3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CD8-FA4C-4FD8-B040-9B781CE3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2D0-D831-45EC-A1DA-B56EE7C6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04E-2386-44C3-AB81-F43962C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48558-6E69-41D3-9D8C-6EE0C495EC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