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84617"/>
        <c:axId val="19686"/>
      </c:barChart>
      <c:catAx>
        <c:axId val="27584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86"/>
        <c:crosses val="autoZero"/>
        <c:auto val="1"/>
        <c:lblAlgn val="ctr"/>
        <c:lblOffset val="100"/>
        <c:noMultiLvlLbl val="0"/>
      </c:catAx>
      <c:valAx>
        <c:axId val="19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84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F2F-7042-4C9E-8CC1-6AE73DBC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6C4-BAD4-4851-862F-C53144F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DF8-9641-43BF-96B5-FA10CDC4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34D-47BD-4810-9C79-1C006543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54D-3A66-43F4-94A7-2A3B93CB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828-1D7C-4871-A509-4D7C6097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EF7-3196-4BD2-8A5F-5A9D4681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C38-4332-496D-AA91-4F7359A3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8AB-D344-48EF-AA70-86EB5D23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AD2-9C28-43C2-9263-7D9D78E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75B-8767-4554-A014-BCFF7DF0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20F-2ADF-42B4-AA8B-9E06819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D7DED-AB3F-4527-B04D-F9BA3DB2F0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