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5949"/>
        <c:axId val="25572415"/>
      </c:barChart>
      <c:catAx>
        <c:axId val="37145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72415"/>
        <c:crosses val="autoZero"/>
        <c:auto val="1"/>
        <c:lblAlgn val="ctr"/>
        <c:lblOffset val="100"/>
        <c:noMultiLvlLbl val="0"/>
      </c:catAx>
      <c:valAx>
        <c:axId val="2557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5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1D0-C9E9-4D01-9E58-986F4C59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A2B-2843-4908-BECE-460AFAB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1F3-D45F-40EC-8360-C6938BA0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956-B927-41FA-A6A8-13FB3EEE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426-F287-451B-8BCF-D65063A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DFF-D807-416F-AFAA-71972B0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51F-EECE-47E4-9CBE-EFFD549A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2C0-3820-4F19-BD5D-0068720D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F17-02B9-4A57-9C7E-887916EA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A58-09BE-4339-9291-1640430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27D-4374-48FC-A88E-3080040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186-1F30-490F-9118-084C41D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E15F-6E4C-45C0-901C-A60EDD50E1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