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6939"/>
        <c:axId val="19117715"/>
      </c:barChart>
      <c:catAx>
        <c:axId val="23106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17715"/>
        <c:crosses val="autoZero"/>
        <c:auto val="1"/>
        <c:lblAlgn val="ctr"/>
        <c:lblOffset val="100"/>
        <c:noMultiLvlLbl val="0"/>
      </c:catAx>
      <c:valAx>
        <c:axId val="19117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6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06C-DA63-466C-A301-5FA86C77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237-FA86-4B97-AD76-FAB7239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D0E-62A3-4BC7-99AA-FF7D66C8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CCD-6A6B-44E0-BDF3-D56996BF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320-392D-414A-95A7-FF72B250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6CE-D8A4-4418-B05A-9AA17787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4C1-57CA-4AD7-8475-E11FE852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E63-4A1C-4A4C-A103-7DB5116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879-4A5A-43AF-A672-F95BF48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3F3-F21D-4212-8796-DBFD4CB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BB5-E6E4-4910-B5B2-6B3F0F9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51B-198A-4035-AE8A-8238172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CFDDD-697D-45AE-A887-ED3C2A4DA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