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21342"/>
        <c:axId val="65871454"/>
      </c:barChart>
      <c:catAx>
        <c:axId val="10721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71454"/>
        <c:crosses val="autoZero"/>
        <c:auto val="1"/>
        <c:lblAlgn val="ctr"/>
        <c:lblOffset val="100"/>
        <c:noMultiLvlLbl val="0"/>
      </c:catAx>
      <c:valAx>
        <c:axId val="65871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21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1AE-A79E-4B84-AE72-D3D6E4F3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5B4-2372-4DBB-BAD8-50CE39A3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FF3-48E8-49B7-8ACD-0C89E3C7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5C9-42FC-4923-8121-35A16F58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57D-8425-4941-9D39-DCDA7D3A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9ED-06AB-41E6-853D-AA389C70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0D3-AF71-4830-BA68-C68C6FC5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135-BB95-4896-B2B8-A82CAB11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FB3-E53A-4FF0-AE68-CCBBC6B9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7730-358C-4C8D-932E-B392D16F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0EC7-DC41-4E26-96F5-ED4A4A07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42E-52AD-4F1E-9441-890BFB77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9DDC3-48FE-4C66-8E02-78E2D5FB02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