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76423"/>
        <c:axId val="54174685"/>
      </c:barChart>
      <c:catAx>
        <c:axId val="24876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74685"/>
        <c:crosses val="autoZero"/>
        <c:auto val="1"/>
        <c:lblAlgn val="ctr"/>
        <c:lblOffset val="100"/>
        <c:noMultiLvlLbl val="0"/>
      </c:catAx>
      <c:valAx>
        <c:axId val="54174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76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266-8A60-4308-AC86-8539BDD2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A84-5ABF-4B0C-818C-09977BD5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7A5-2199-4BF9-AB3A-226A160D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EC3-E717-4C88-8A99-FEEF5BCF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18A-6D25-4396-9AE1-F61781A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A42-8228-4078-830C-E9E84071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C00-54ED-4582-ADCB-E6560883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BF5-5F8E-4253-8578-6774BDB7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873-B7AD-4109-A67B-2DABDF16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8DC-2207-4CF6-834D-C13A5913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376-381B-49CD-B77D-2A1CDD3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568A-D3AF-49C0-9657-2F02300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338C6-C992-4BBD-BB8A-6828177EC8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