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38721"/>
        <c:axId val="60164731"/>
      </c:barChart>
      <c:catAx>
        <c:axId val="387387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4731"/>
        <c:crosses val="autoZero"/>
        <c:auto val="1"/>
        <c:lblAlgn val="ctr"/>
        <c:lblOffset val="100"/>
        <c:noMultiLvlLbl val="0"/>
      </c:catAx>
      <c:valAx>
        <c:axId val="60164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387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7D4-625F-48D4-97E1-8EC39682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8D7-AB0C-4554-8F8A-3980F953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ACA-6EA4-4FE3-9DCC-8339C666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BCF-6060-4DEC-9758-16FD5733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20B-22F5-4100-9015-F7AB8AEA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3FE-8E1B-4480-A0FD-E8AC9A4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F31A-DDE0-43A0-84CD-6AEA73BE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E32C-E7EC-45F3-A310-7C3C494E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07A-8F50-4ADA-9F40-96195F64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463-EA16-4415-BCBF-29212E50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FEF-BACD-48CA-88BB-F31498F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12F8-A3A2-4D6C-BC0B-A81C5602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74FB6-09AB-4CC3-99A8-BDF51B404D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