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14139"/>
        <c:axId val="96796765"/>
      </c:barChart>
      <c:catAx>
        <c:axId val="48314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96765"/>
        <c:crosses val="autoZero"/>
        <c:auto val="1"/>
        <c:lblAlgn val="ctr"/>
        <c:lblOffset val="100"/>
        <c:noMultiLvlLbl val="0"/>
      </c:catAx>
      <c:valAx>
        <c:axId val="96796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14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898-7016-4746-8CDD-170C95A7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E55-FF8A-4882-A226-6547270C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C69-AC55-449D-939C-057EB5FB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BC4-816F-4ED6-BAA6-E6220A25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65A-420D-41D3-9027-27260967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4FA-511C-4DC8-8998-F5B726B7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6B4-3FDA-42AC-97CC-12D1AAE1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E82-EB00-4B3D-8092-937673B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029-D610-4418-AEF6-2E74D00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781-C0B0-416D-8454-C2E097B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AE2-5728-4367-BEE8-E33E046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418-37EB-432C-B76B-3621D27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CA2D8-1CD0-4434-933E-4FCFC175E6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