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74187"/>
        <c:axId val="77508408"/>
      </c:barChart>
      <c:catAx>
        <c:axId val="59674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08408"/>
        <c:crosses val="autoZero"/>
        <c:auto val="1"/>
        <c:lblAlgn val="ctr"/>
        <c:lblOffset val="100"/>
        <c:noMultiLvlLbl val="0"/>
      </c:catAx>
      <c:valAx>
        <c:axId val="77508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74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4EB-AABB-4FDB-83DF-F5AF99A8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008-4225-49C6-BB32-4BCE883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F5E-6FEE-425A-B38A-F4AD9D11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7C6-02D7-4697-97DE-CEA43AC7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C4C-CE5D-4ED4-8A0F-476CC267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B21-4AD9-4467-9B46-61A4C073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23D-6A55-4294-96A8-17D7669E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24D-E44C-4479-9334-1F94971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B02-6BB6-49BA-8D48-7C20EC09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1F5-2DF1-4867-8926-2F83BE7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D30-9611-45AA-A0D5-03E0006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E03-CAB0-4B3F-994C-A0E38F6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4BC33-2499-42D6-A3E8-FD4350E6D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